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3FC-54D7-4CCD-AE23-3A11F938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C3D-A9F8-4033-97CA-1FC89A3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78F-D0A2-4186-A18E-F5E91556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DA7-2DE4-4457-9668-50073F78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A39-2321-496A-8B12-9C6C192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74F-28F7-48F5-9500-EE2A359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220-16E8-4FC5-8458-2628611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3E4-364F-42B4-AF75-E7AB1B30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DFA-D4A0-4970-B229-4714961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403-D04D-499C-B91F-19718DF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F5C-2433-4646-9B1C-D4AE3E9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A74-B9F9-4CF4-A56C-0123B65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D6FF-E8E8-421E-9651-8D468A7AC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4.xml"/><Relationship Id="rId22" Type="http://schemas.openxmlformats.org/officeDocument/2006/relationships/slide" Target="slide48.xml"/><Relationship Id="rId23" Type="http://schemas.openxmlformats.org/officeDocument/2006/relationships/slide" Target="slide50.xml"/><Relationship Id="rId24" Type="http://schemas.openxmlformats.org/officeDocument/2006/relationships/slide" Target="slide2.xml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wspa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al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t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ll name of the person who had a trial about libel that led to the first amendment, the freedom of speech and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 Peter Ze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how newspapers follow the politic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watchdog of the government, print wrongdoings, explain where money is going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li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rinted false defamation - hurts someone’s re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objectivity when dealing with the ethics of a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staying neutral - not putting your own views/feelings in the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ner of the Hazelwood decision - the later court case we talked about dealing with teen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he school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 sold for only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the Sentry function of a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at is likely to happen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the method used to determine if something is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Who Cares?”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eople to poll in order for it to be 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50 or the entir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that means the “newsworthiness” -or- importance of a person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romin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question you ask first in a poll/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filter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enny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to avoid in a poll/survey (must have at least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oaded (make them answer one way because the other sounds bad), ambiguous (too vague or too many questions in one topic), one just to be “coo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important part of an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that means giving credit to someone for a quote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t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blem in a l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rammar &amp;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diagram used in writing leads and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nverted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ging up dirt on people/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4 components of the basic lead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ews, attribution, verb,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a transition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n, later, and, but, or, also, finally, in general, nevertheless, likewise, however, for example, therefore, thus, in addition, mean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ormation that comes at the end of the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ast important facts/a clo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word that means overworked, overused, old expre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cli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nside language of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uckr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common place for repetition to occur in an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round qu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two ways Nellie Bly created her own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oing around the world in 72 days -or- entering an insane asy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technological advancement to hurt newspape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9-06T03:30:22Z</dcterms:modified>
  <cp:revision>50</cp:revision>
  <dc:subject/>
  <dc:title>No Slide Title</dc:title>
</cp:coreProperties>
</file>